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6C22-AF09-4F98-8FB0-72DADC89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811-4CB8-4AD9-8812-636611AD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58C-22D1-4F75-9540-35C0DC5A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5FAA-DDE2-470E-A202-02EFE6AD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8AAC-0754-4554-AE03-9E55A291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9DDD-3A0F-4A2F-B3C9-E3DA7A86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E84B-65D0-494F-8DD8-B84ECBF0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A202-2D7C-4B8F-8315-2932B1D6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AF30-9E1E-4FAE-8DAD-51AA85F4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0460-D241-4BAE-8087-953EB5B6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FF6C-2E03-47E3-B7D1-5E7A0E31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875-98B3-4293-9A07-D9217E6B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1883-0633-4438-A0C9-D274F9E4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3BBE-27F7-421E-B749-F57E0DED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7E86-5443-44DC-8D4A-B53CF6EC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00BB-965C-4E3C-AD4C-C222CF50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3273-F528-4B71-B234-C9FFF69C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58E4D-5C8C-4458-BAC0-6D93F679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8AA1D-F2B3-4608-ABAA-32A5EEB5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1206B-5B97-4B1D-99FB-DE42B14F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EE178-F8ED-47C0-B78F-0C959F66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D7684-305E-4D39-8046-23C9FC98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A38C-AC16-4B34-A45E-7296B089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E3E3E-DDE1-4676-80F5-51912F4A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F7C60-8BE2-4EF0-B053-47FCCA48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0FEFB-9789-4D55-A844-B784DD85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F1D66-A0BD-4AC8-8602-C623C24E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42952-AEA9-4177-BE0E-7A86691B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AC7F0-4823-48AD-BC68-A242EDC6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392B4-3CC4-4538-8C0F-A4324127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8A67B-A17E-4455-BED4-72136767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B01A7-3764-4165-A431-30A6911E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4D699-30E6-4A0C-B6D6-7B0DFCF5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852-E800-40BC-95E2-2D7D9B13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CA546-939E-48B1-AF7D-84D73817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729CA-F344-4B41-A0A5-974012D8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BA08F-68C7-4720-B917-DEC2D18D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4FACE-A0C4-4668-9994-99B06F98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BBACD-21AF-44A1-A70A-A5E4D9C2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E42BE-5C23-4573-A9E7-68150BAC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2AD51-9B87-4770-9535-5D6C7842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EE95B-B1C1-4DAC-A4BF-AC588A52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DC79B-1FDA-4CB2-BB84-214F27BB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C5CCB-9FED-49B2-981E-77E803A8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94F-2713-42C7-81AD-376FD6BC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3145F-BAD7-42B5-94C4-44FB441A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9F58E-3CB3-4993-B577-AFB7C539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312DF-B37B-488C-8810-ACA0C925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51604-1C68-4640-A73E-A510AD79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49D7D-ECB4-4FC3-9993-85A16CD7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3A8BE-8A10-481A-B7D2-2832A26C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39CEA-59E6-4CFD-9F76-3A39981A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0D61E-BC34-4DAD-881B-1F9CA153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722B0-B04E-4876-BA3E-A237E42D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2A9F7-1D1F-4ABA-9417-C0BF4CC4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908-8EB8-4B16-9E4B-F7CF49F4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93692-EE9E-412B-B2E3-8B56BA3E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E9CCF-CB0D-4EFA-A44B-DC3D003F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E3ACE-22B3-445D-824A-6E262AD2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75AEA-60EA-4D40-B573-D8D610A2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531AC-EC26-4E47-8AEC-59A6E68F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3A700-7D20-4090-86AF-D9CB2831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9898A-5E6C-4374-815E-0E37B685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6DA5B-B7F7-40BA-8505-F0E5FD16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06F4D-0C23-40D9-8AB2-B31404E1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E6FCD-87DA-4712-A4BC-1CD4A57F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B20-1FD5-4AA4-9780-184AF832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F1ADC-C364-41A9-8DD4-A6262F74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C6CD2-DEA7-4EB7-8E8F-9C6EB27C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596B3-708A-4E05-91AA-B45DBDB5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03380-8882-4666-876A-0C602A74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63311-8951-4D83-A2B4-2D4A9AC8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4D47B-0457-4F96-AEB9-F028AC72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6A5CB-3AA0-4ED2-9CED-BD7658E5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35E4E-E704-4184-AA1F-0B05083D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45CA2-0AAE-4BDF-B52C-30A39ECC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96084-FD8D-4390-8184-0C37BB37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256-6D14-4E53-82BD-6D253EAD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2620D-CC5D-445B-9BF3-F8F9494C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2AB9E-3352-44D5-82B6-5B1A3138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D5EAD-98AD-44A9-8514-B63D071E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D5A00-7C4F-4CF9-99F6-E11ECAEC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4DC91-79AE-484A-BFF9-4A8D019D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CC6-46FD-458F-B2AF-DCBFA079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80A1-A37D-420D-AE84-C23C5500218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853ac"/>
              </a:gs>
              <a:gs pos="100000">
                <a:srgbClr val="84b0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DCB0-F112-4798-99D3-2AEBDE8FD5FB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0FC2-6D1C-40D3-BEBA-C2E7D7EF19A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853ac"/>
              </a:gs>
              <a:gs pos="100000">
                <a:srgbClr val="84b0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A7C0-A0A7-4E31-934D-63896416A1E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B7B7-A019-4A02-A41B-FFB322C5D58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2E2E-A8EF-4ED4-8A1E-ECA8CB51F0B2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ba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7ba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ba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60BE-D3BF-4D97-982D-CDD85B3EF8ED}" type="slidenum">
              <a:rPr b="0" lang="ru-RU" sz="900" spc="-1" strike="noStrike">
                <a:solidFill>
                  <a:srgbClr val="87ba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3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02" name="Содержимое 5" descr="дом.jpg"/>
          <p:cNvPicPr/>
          <p:nvPr/>
        </p:nvPicPr>
        <p:blipFill>
          <a:blip r:embed="rId2"/>
          <a:stretch/>
        </p:blipFill>
        <p:spPr>
          <a:xfrm>
            <a:off x="1352520" y="1882800"/>
            <a:ext cx="6438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9" name="Содержимое 4" descr="стена.jpg"/>
          <p:cNvPicPr/>
          <p:nvPr/>
        </p:nvPicPr>
        <p:blipFill>
          <a:blip r:embed="rId1"/>
          <a:stretch/>
        </p:blipFill>
        <p:spPr>
          <a:xfrm>
            <a:off x="285840" y="1500120"/>
            <a:ext cx="4503600" cy="33782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5071680" y="1143000"/>
            <a:ext cx="3614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Wall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СТЕНА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32" name="Содержимое 4" descr="дверь.jpg"/>
          <p:cNvPicPr/>
          <p:nvPr/>
        </p:nvPicPr>
        <p:blipFill>
          <a:blip r:embed="rId1"/>
          <a:stretch/>
        </p:blipFill>
        <p:spPr>
          <a:xfrm>
            <a:off x="428760" y="1357200"/>
            <a:ext cx="4081320" cy="49294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Door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ДВЕРЬ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500680" y="-5018760"/>
            <a:ext cx="1429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5712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Hall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– коридор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Kitchen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 - кухн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Pantry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кладов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Living 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гостин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Bed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спальн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Bath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ванн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Toilet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туалет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Window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окно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Wall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стена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Door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дверь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pic>
        <p:nvPicPr>
          <p:cNvPr id="336" name="Рисунок 5" descr="дом.jpg"/>
          <p:cNvPicPr/>
          <p:nvPr/>
        </p:nvPicPr>
        <p:blipFill>
          <a:blip r:embed="rId1"/>
          <a:stretch/>
        </p:blipFill>
        <p:spPr>
          <a:xfrm>
            <a:off x="4071960" y="3279600"/>
            <a:ext cx="459432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811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39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0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3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4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5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6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7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8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9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0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1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2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3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4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5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6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1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2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3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4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5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6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7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8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9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0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1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2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3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4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5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6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7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8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9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59738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57200" y="6308640"/>
            <a:ext cx="822960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84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5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6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7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8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9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0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1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2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3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4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5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6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7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8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9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0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1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2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3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4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5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6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7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8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9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0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1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2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3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4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5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6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7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8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9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0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1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2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3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4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27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8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9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0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1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2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4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5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6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7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8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9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0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1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2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3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4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5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6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7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8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9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0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1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2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3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4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5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6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7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8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9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0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1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2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3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4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5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6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7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70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1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2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3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4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5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6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7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8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9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0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1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2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3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4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5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6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7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8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9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0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1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2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3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4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5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6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7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8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9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0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1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2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3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4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5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6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7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8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9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0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13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4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5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6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7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8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9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0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1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2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3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4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5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6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7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8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9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0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1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2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3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4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5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6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7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8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9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0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1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2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3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4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5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6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7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8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9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0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1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2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3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56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7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8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9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0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1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2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3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4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5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6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7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8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9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0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1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2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3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4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5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6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7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8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9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0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1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2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3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4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5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6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7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8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9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0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1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2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3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4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5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6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04" name="Содержимое 3" descr="коридор.jpg"/>
          <p:cNvPicPr/>
          <p:nvPr/>
        </p:nvPicPr>
        <p:blipFill>
          <a:blip r:embed="rId2"/>
          <a:stretch/>
        </p:blipFill>
        <p:spPr>
          <a:xfrm>
            <a:off x="285840" y="285840"/>
            <a:ext cx="4054320" cy="6253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104"/>
                </a:solidFill>
                <a:latin typeface="Century Gothic"/>
              </a:rPr>
              <a:t>Hall</a:t>
            </a:r>
            <a:endParaRPr b="0" lang="en-US" sz="54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104"/>
                </a:solidFill>
                <a:latin typeface="Century Gothic"/>
              </a:rPr>
              <a:t>КОРИДОР</a:t>
            </a:r>
            <a:br>
              <a:rPr sz="5400"/>
            </a:br>
            <a:br>
              <a:rPr sz="2800"/>
            </a:br>
            <a:endParaRPr b="0" lang="en-US" sz="54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99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0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1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2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3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4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5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6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7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8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9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0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1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2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3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4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5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6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7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8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9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0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1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2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3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4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5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6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7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8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9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0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1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2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3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4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5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6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7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8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9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8110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0" y="99972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42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3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4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5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6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7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8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9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0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1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2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3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4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5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6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7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8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9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0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1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2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3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4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5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6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7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8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9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0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1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2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3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4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5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6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7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8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9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0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1" name="Прямоугольник 49"/>
          <p:cNvSpPr/>
          <p:nvPr/>
        </p:nvSpPr>
        <p:spPr>
          <a:xfrm>
            <a:off x="3929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2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7120" y="4714920"/>
            <a:ext cx="79725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Kitchen</a:t>
            </a: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КУХНЯ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  <p:pic>
        <p:nvPicPr>
          <p:cNvPr id="309" name="Рисунок 10" descr="кухня.jpg"/>
          <p:cNvPicPr/>
          <p:nvPr/>
        </p:nvPicPr>
        <p:blipFill>
          <a:blip r:embed="rId2"/>
          <a:stretch/>
        </p:blipFill>
        <p:spPr>
          <a:xfrm>
            <a:off x="1071720" y="0"/>
            <a:ext cx="71434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1" name="Содержимое 4" descr="кладовка.jpg"/>
          <p:cNvPicPr/>
          <p:nvPr/>
        </p:nvPicPr>
        <p:blipFill>
          <a:blip r:embed="rId1"/>
          <a:stretch/>
        </p:blipFill>
        <p:spPr>
          <a:xfrm>
            <a:off x="285840" y="214200"/>
            <a:ext cx="4854600" cy="6519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5143320" y="1785960"/>
            <a:ext cx="37573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Pantry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Кладовая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4" name="Содержимое 4" descr="гостинная.jpg"/>
          <p:cNvPicPr/>
          <p:nvPr/>
        </p:nvPicPr>
        <p:blipFill>
          <a:blip r:embed="rId1"/>
          <a:stretch/>
        </p:blipFill>
        <p:spPr>
          <a:xfrm>
            <a:off x="2000160" y="57240"/>
            <a:ext cx="4857840" cy="4645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213840" y="5000400"/>
            <a:ext cx="84726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104"/>
                </a:solidFill>
                <a:latin typeface="Century Gothic"/>
              </a:rPr>
              <a:t>Living room</a:t>
            </a:r>
            <a:r>
              <a:rPr b="1" lang="ru-RU" sz="3100" spc="-1" strike="noStrike">
                <a:solidFill>
                  <a:srgbClr val="000104"/>
                </a:solidFill>
                <a:latin typeface="Century Gothic"/>
              </a:rPr>
              <a:t> </a:t>
            </a: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74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104"/>
                </a:solidFill>
                <a:latin typeface="Century Gothic"/>
              </a:rPr>
              <a:t>ГОСТИННАЯ</a:t>
            </a: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7" name="Содержимое 4" descr="спальня.jpg"/>
          <p:cNvPicPr/>
          <p:nvPr/>
        </p:nvPicPr>
        <p:blipFill>
          <a:blip r:embed="rId1"/>
          <a:stretch/>
        </p:blipFill>
        <p:spPr>
          <a:xfrm>
            <a:off x="1357200" y="214200"/>
            <a:ext cx="6500880" cy="4721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285840" y="5214600"/>
            <a:ext cx="840096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44520" indent="-29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Bedroom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344520" indent="-29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СПАЛЬНЯ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0" name="Содержимое 4" descr="ванная.jpg"/>
          <p:cNvPicPr/>
          <p:nvPr/>
        </p:nvPicPr>
        <p:blipFill>
          <a:blip r:embed="rId1"/>
          <a:stretch/>
        </p:blipFill>
        <p:spPr>
          <a:xfrm>
            <a:off x="2428920" y="285840"/>
            <a:ext cx="4286160" cy="46735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571680" y="5072040"/>
            <a:ext cx="811512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104"/>
                </a:solidFill>
                <a:latin typeface="Century Gothic"/>
              </a:rPr>
              <a:t>Bathroom</a:t>
            </a: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104"/>
                </a:solidFill>
                <a:latin typeface="Century Gothic"/>
              </a:rPr>
              <a:t>ВАННАЯ</a:t>
            </a: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24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3" name="Содержимое 4" descr="туалет.jpg"/>
          <p:cNvPicPr/>
          <p:nvPr/>
        </p:nvPicPr>
        <p:blipFill>
          <a:blip r:embed="rId1"/>
          <a:stretch/>
        </p:blipFill>
        <p:spPr>
          <a:xfrm>
            <a:off x="285840" y="642960"/>
            <a:ext cx="4203720" cy="56055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Toilet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ТУАЛЕТ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6" name="Содержимое 4" descr="окно.jpg"/>
          <p:cNvPicPr/>
          <p:nvPr/>
        </p:nvPicPr>
        <p:blipFill>
          <a:blip r:embed="rId1"/>
          <a:stretch/>
        </p:blipFill>
        <p:spPr>
          <a:xfrm>
            <a:off x="428760" y="1643040"/>
            <a:ext cx="3808440" cy="4714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Window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ОКНО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9T19:31:59Z</dcterms:modified>
  <cp:revision>27</cp:revision>
  <dc:subject/>
  <dc:title>«Describing your house»</dc:title>
</cp:coreProperties>
</file>